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645275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45600" cy="977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87964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63800" y="0"/>
            <a:ext cx="28800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79120" y="733320"/>
            <a:ext cx="4886280" cy="366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64920" y="4642920"/>
            <a:ext cx="5314680" cy="43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283680"/>
            <a:ext cx="287964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63800" y="9283680"/>
            <a:ext cx="28800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14C6A-79CF-4ACB-A53B-07A115D43A1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879480" y="733320"/>
            <a:ext cx="4886280" cy="366552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64920" y="4642920"/>
            <a:ext cx="531468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Финансы 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финансовая систе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Місце для номера слайда 3"/>
          <p:cNvSpPr/>
          <p:nvPr/>
        </p:nvSpPr>
        <p:spPr>
          <a:xfrm>
            <a:off x="3763800" y="9283680"/>
            <a:ext cx="2880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04C43-DAD8-4EFD-80E0-B14F13F2CC9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879480" y="733320"/>
            <a:ext cx="4886280" cy="366552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64920" y="4642920"/>
            <a:ext cx="531468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нансовая систе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нансовую систему рассматривают как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форму организации денежных отношений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между всеми субъектами воспроизводственного процесса по распределению и перераспределению совокупного общественного продукта.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Финансы: Учебник/ под ред. Ковалева В.В.,  «Проспект»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763800" y="9283680"/>
            <a:ext cx="2880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5B69F-4458-4C47-8DC5-12E80BB852E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879480" y="733320"/>
            <a:ext cx="4886280" cy="366552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64920" y="4642920"/>
            <a:ext cx="531468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Финансовая систем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рассматривается как вся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совокупность финансовых отношений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как система, в которой выделяются отдельные сферы и звенья финансовых отношен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Финансы: Рабочая программа/ под ред. Филина  А.Г., «МГТА», М., 2002.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763800" y="9283680"/>
            <a:ext cx="2880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41172-D682-49EC-9893-0073965E864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879480" y="733320"/>
            <a:ext cx="4886280" cy="366552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64920" y="4642920"/>
            <a:ext cx="531468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феры и звенья финансовых отношений взаимосвязаны, образуют в совокупности единую финансовую систему. Последняя имеет следующий ви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Финансы: Учебник/ под ред. Родионовой В.М., «Финансы и статистика» ]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                 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Финансовая систе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Централизованные                                Децентрализован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финансы                                                        финанс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- государственный бюджет              - финансы коммерческих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пред-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- внебюджетные фонды                     - финансы некоммерческих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пред-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- государственный кредит                - финансы общественны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- страхование                                                       объедин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100" spc="-1" strike="noStrike">
                <a:solidFill>
                  <a:srgbClr val="000000"/>
                </a:solidFill>
                <a:latin typeface="Arial"/>
              </a:rPr>
              <a:t>а) социальное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100" spc="-1" strike="noStrike">
                <a:solidFill>
                  <a:srgbClr val="000000"/>
                </a:solidFill>
                <a:latin typeface="Arial"/>
              </a:rPr>
              <a:t>б) личное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100" spc="-1" strike="noStrike">
                <a:solidFill>
                  <a:srgbClr val="000000"/>
                </a:solidFill>
                <a:latin typeface="Arial"/>
              </a:rPr>
              <a:t>в) имущественное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100" spc="-1" strike="noStrike">
                <a:solidFill>
                  <a:srgbClr val="000000"/>
                </a:solidFill>
                <a:latin typeface="Arial"/>
              </a:rPr>
              <a:t>г) страхование ответственности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100" spc="-1" strike="noStrike">
                <a:solidFill>
                  <a:srgbClr val="000000"/>
                </a:solidFill>
                <a:latin typeface="Arial"/>
              </a:rPr>
              <a:t>д) страхование предприн-их рисков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763800" y="9283680"/>
            <a:ext cx="2880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428EB-FDF0-44F6-BEBC-70BC6484712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879480" y="733320"/>
            <a:ext cx="4886280" cy="366552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64920" y="4642920"/>
            <a:ext cx="531468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Финансовая систем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это совокупность финансовых рынков и финансовых посредник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астники финансовых отношений: кредиторы и заемщи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763800" y="9283680"/>
            <a:ext cx="2880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927A1-F7A8-4EC8-B1CE-FF327A1C0E0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879480" y="733320"/>
            <a:ext cx="4886280" cy="366552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64920" y="4642920"/>
            <a:ext cx="531468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В финансовую систему входят две подсистемы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окупность финансовых институтов …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окупность государственных органов и учрежден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763800" y="9283680"/>
            <a:ext cx="2880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E32F7-5543-4530-9726-8D311A69B9A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879480" y="733320"/>
            <a:ext cx="4886280" cy="366552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64920" y="4642920"/>
            <a:ext cx="531468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нансовая система может быть представлена как совокупность трех основных звеньев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осударственные финанс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стные финанс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астные финанс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763800" y="9283680"/>
            <a:ext cx="2880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21D73-5770-49E6-B844-CD4F325D696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879480" y="733320"/>
            <a:ext cx="4886280" cy="366552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64920" y="4642920"/>
            <a:ext cx="531468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Финансовая система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Децентрализованны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финансы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финансы  Ю.Л.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финансы  Ф.Л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Централизованные     финансы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Бюджетная система Р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Государственный креди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Внебюджетные фон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763800" y="9283680"/>
            <a:ext cx="2880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8B8FF-C0DB-41F2-B64C-A32ACE812F6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879480" y="733320"/>
            <a:ext cx="4886280" cy="366552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64920" y="4642920"/>
            <a:ext cx="531468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Литератур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юджетный Кодекс Р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юджетная система России, под. ред.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Г. Б. Поляк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нансы, под. ред. А. М. Ковалев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нансы, под. ред.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Л. А. Дробозин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ория финансов -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Б. М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Сабант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Місце для номера слайда 3"/>
          <p:cNvSpPr/>
          <p:nvPr/>
        </p:nvSpPr>
        <p:spPr>
          <a:xfrm>
            <a:off x="3763800" y="9283680"/>
            <a:ext cx="2880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B610E-2A19-4E42-A67F-793E8DC3F60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879480" y="733320"/>
            <a:ext cx="4886280" cy="366552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64920" y="4642920"/>
            <a:ext cx="531468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равнение «денег» и «финансов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Деньги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– всеобщий стоимостной эквивален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Функции денег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ра стоимост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редство обраще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редство платеж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редство накопле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ые деньг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Місце для номера слайда 3"/>
          <p:cNvSpPr/>
          <p:nvPr/>
        </p:nvSpPr>
        <p:spPr>
          <a:xfrm>
            <a:off x="3763800" y="9283680"/>
            <a:ext cx="2880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AB6C3-AA21-4ED1-AE4F-23C9227D2E9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879480" y="733320"/>
            <a:ext cx="4886280" cy="366552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64920" y="4642920"/>
            <a:ext cx="531468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Финансы, 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как историческая категория:</a:t>
            </a: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зданием государств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явление самостоятельных хозяйствующих субъекто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щественное разделение труда и деление общества на социальные групп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Місце для номера слайда 3"/>
          <p:cNvSpPr/>
          <p:nvPr/>
        </p:nvSpPr>
        <p:spPr>
          <a:xfrm>
            <a:off x="3763800" y="9283680"/>
            <a:ext cx="2880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0663F-5CB2-4365-8717-99565F85EEF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879480" y="733320"/>
            <a:ext cx="4886280" cy="366552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64920" y="4642920"/>
            <a:ext cx="531468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Финансы, 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как экономическая категория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окупность экономико – денежных отношений, связанных с формированием, распределением и использованием финансовых ресурсов для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Місце для номера слайда 3"/>
          <p:cNvSpPr/>
          <p:nvPr/>
        </p:nvSpPr>
        <p:spPr>
          <a:xfrm>
            <a:off x="3763800" y="9283680"/>
            <a:ext cx="2880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954D0-6FB5-444F-A314-9F0A02EC412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879480" y="733320"/>
            <a:ext cx="4886280" cy="366552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64920" y="4642920"/>
            <a:ext cx="531468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нансы выступают в денежной форме, но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Місце для номера слайда 3"/>
          <p:cNvSpPr/>
          <p:nvPr/>
        </p:nvSpPr>
        <p:spPr>
          <a:xfrm>
            <a:off x="3763800" y="9283680"/>
            <a:ext cx="2880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717A6-4A83-4EE6-A109-62593A344FB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879480" y="733320"/>
            <a:ext cx="4886280" cy="366552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64920" y="4642920"/>
            <a:ext cx="531468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нансовые ресурс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бственные средств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билизованные средств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редства, поступившие в порядке перераспреде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Місце для номера слайда 3"/>
          <p:cNvSpPr/>
          <p:nvPr/>
        </p:nvSpPr>
        <p:spPr>
          <a:xfrm>
            <a:off x="3763800" y="9283680"/>
            <a:ext cx="2880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12FED-6804-4161-A353-95D21C55B80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879480" y="733320"/>
            <a:ext cx="4886280" cy="366552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64920" y="4642920"/>
            <a:ext cx="531468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ункции финансов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пределительная (перераспределительная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гулирующа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трольна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Місце для номера слайда 3"/>
          <p:cNvSpPr/>
          <p:nvPr/>
        </p:nvSpPr>
        <p:spPr>
          <a:xfrm>
            <a:off x="3763800" y="9283680"/>
            <a:ext cx="2880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51F58-5A8B-461F-A333-A959C0E188E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879480" y="733320"/>
            <a:ext cx="4886280" cy="366552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64920" y="4642920"/>
            <a:ext cx="531468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4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редние темпы роста в промышленности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(% в месяц, сезонный фактор устранен)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763800" y="9283680"/>
            <a:ext cx="2880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BD505-8636-45C0-954F-0127ECFD088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EB25F-D489-4905-BE2A-B3BCB50F2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EEDCB-BE96-4B9E-B319-767146502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AB44A-F1B6-405F-A994-64AB762E6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1123A-27C6-4A28-BC1E-250A666DC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600A8-FBCF-4D70-99F8-0FBF695B2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EE8CD-2345-45F1-AEC1-DB4A1BD46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F35BB-5298-4642-BD29-D75B220BA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AD8A5-1748-416B-B99D-F8D3F9666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3FFC0-07EC-475C-A89D-7CC37B8D8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E9F3B-C22E-46C9-A757-28B3EC098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30232-803E-4BB8-ACC3-FF8C25918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3A3B0-302B-42FC-9BEE-D87C4F20B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B0E07-7881-43BE-A519-DB503ABB1EB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7F851-1601-4FB7-9674-7E267874475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Финансы 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финансовая систем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3499C-7CD5-4732-B5A8-A726A96C3E5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Финансовая систем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84000" y="1412640"/>
            <a:ext cx="813564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инансовую систему рассматривают как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форму организации денежных отношений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между всеми субъектами воспроизводственного процесса по распределению и перераспределению совокупного общественного продукта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Финансы: Учебник/ под ред. Ковалева В.В.,  «Проспект»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BE7D1-C5D3-4132-8F97-BF915C1D274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Финансовая система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, рассматривается как вся </a:t>
            </a:r>
            <a:r>
              <a:rPr b="0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совокупность финансовых отношений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, как система, в которой выделяются отдельные сферы и звенья финансовых отношени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инансы: Рабочая программа/ под ред. Филина  А.Г., «МГТА», М., 2002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4BD45-27DF-4B97-9EF0-0D18DBEDF9F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феры и звенья финансовых отношений взаимосвязаны, образуют в совокупности единую финансовую систему. Последняя имеет следующий ви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инансы: Учебник/ под ред. Родионовой В.М., «Финансы и статистика» 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Финансовая систе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Централизованные                                Децентрализован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финансы                                                        финанс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- государственный бюджет              - финансы коммерческих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ред-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- внебюджетные фонды                     - финансы некоммерческих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ред-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- государственный кредит                - финансы общественн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- страхование                                                       объедине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) социальн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б) личн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в) имущественн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г) страхование ответствен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д) страхование предприн-их рис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2A973-281F-4A11-AFC1-DCB0C9F3F64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Финансовая система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– это совокупность финансовых рынков и финансовых посредников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Участники финансовых отношений: кредиторы и заемщик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62A6D-46FE-4FDB-BE92-7F0CA13B161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Organization Chart 5"/>
          <p:cNvGrpSpPr/>
          <p:nvPr/>
        </p:nvGrpSpPr>
        <p:grpSpPr>
          <a:xfrm>
            <a:off x="1301040" y="1303200"/>
            <a:ext cx="6469560" cy="2733840"/>
            <a:chOff x="1301040" y="1303200"/>
            <a:chExt cx="6469560" cy="2733840"/>
          </a:xfrm>
        </p:grpSpPr>
        <p:cxnSp>
          <p:nvCxnSpPr>
            <p:cNvPr id="98" name="_s1028"/>
            <p:cNvCxnSpPr>
              <a:stCxn id="99" idx="0"/>
              <a:endCxn id="100" idx="2"/>
            </p:cNvCxnSpPr>
            <p:nvPr/>
          </p:nvCxnSpPr>
          <p:spPr>
            <a:xfrm flipV="1" rot="16200000">
              <a:off x="5714640" y="2553840"/>
              <a:ext cx="229320" cy="9082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1" name="_s1029"/>
            <p:cNvCxnSpPr>
              <a:stCxn id="102" idx="0"/>
              <a:endCxn id="100" idx="2"/>
            </p:cNvCxnSpPr>
            <p:nvPr/>
          </p:nvCxnSpPr>
          <p:spPr>
            <a:xfrm flipH="1" flipV="1" rot="5400000">
              <a:off x="4807080" y="2553840"/>
              <a:ext cx="229320" cy="908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3" name="_s1030"/>
            <p:cNvCxnSpPr>
              <a:stCxn id="104" idx="0"/>
              <a:endCxn id="105" idx="2"/>
            </p:cNvCxnSpPr>
            <p:nvPr/>
          </p:nvCxnSpPr>
          <p:spPr>
            <a:xfrm flipH="1" flipV="1" rot="5400000">
              <a:off x="4001400" y="1454400"/>
              <a:ext cx="229320" cy="839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6" name="_s1031"/>
            <p:cNvCxnSpPr>
              <a:stCxn id="107" idx="0"/>
              <a:endCxn id="105" idx="2"/>
            </p:cNvCxnSpPr>
            <p:nvPr/>
          </p:nvCxnSpPr>
          <p:spPr>
            <a:xfrm flipV="1" rot="16200000">
              <a:off x="5679360" y="615600"/>
              <a:ext cx="229320" cy="25174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8" name="_s1032"/>
            <p:cNvCxnSpPr>
              <a:stCxn id="100" idx="0"/>
              <a:endCxn id="105" idx="2"/>
            </p:cNvCxnSpPr>
            <p:nvPr/>
          </p:nvCxnSpPr>
          <p:spPr>
            <a:xfrm flipV="1" rot="16200000">
              <a:off x="4840920" y="1454040"/>
              <a:ext cx="229320" cy="8402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9" name="_s1033"/>
            <p:cNvCxnSpPr>
              <a:stCxn id="110" idx="0"/>
              <a:endCxn id="105" idx="2"/>
            </p:cNvCxnSpPr>
            <p:nvPr/>
          </p:nvCxnSpPr>
          <p:spPr>
            <a:xfrm flipH="1" flipV="1" rot="5400000">
              <a:off x="3163680" y="616320"/>
              <a:ext cx="229320" cy="25160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05" name="_s1034"/>
            <p:cNvSpPr/>
            <p:nvPr/>
          </p:nvSpPr>
          <p:spPr>
            <a:xfrm>
              <a:off x="3519720" y="1303200"/>
              <a:ext cx="2033640" cy="4572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3160" rIns="83160" tIns="41760" bIns="41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Финансовые рынк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_s1035"/>
            <p:cNvSpPr/>
            <p:nvPr/>
          </p:nvSpPr>
          <p:spPr>
            <a:xfrm>
              <a:off x="1301040" y="1989000"/>
              <a:ext cx="1437480" cy="90504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3160" rIns="83160" tIns="41760" bIns="41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Валютны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рынок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1036"/>
            <p:cNvSpPr/>
            <p:nvPr/>
          </p:nvSpPr>
          <p:spPr>
            <a:xfrm>
              <a:off x="4656240" y="1989000"/>
              <a:ext cx="1437120" cy="90504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3160" rIns="83160" tIns="41760" bIns="41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Рынок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капитал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_s1037"/>
            <p:cNvSpPr/>
            <p:nvPr/>
          </p:nvSpPr>
          <p:spPr>
            <a:xfrm>
              <a:off x="6333120" y="1989000"/>
              <a:ext cx="1437480" cy="90504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3160" rIns="83160" tIns="41760" bIns="41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Рынок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Денежных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средств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_s1038"/>
            <p:cNvSpPr/>
            <p:nvPr/>
          </p:nvSpPr>
          <p:spPr>
            <a:xfrm>
              <a:off x="2978640" y="1989000"/>
              <a:ext cx="1437480" cy="90504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3160" rIns="83160" tIns="41760" bIns="41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Рынок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золот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_s1039"/>
            <p:cNvSpPr/>
            <p:nvPr/>
          </p:nvSpPr>
          <p:spPr>
            <a:xfrm>
              <a:off x="3678120" y="3122640"/>
              <a:ext cx="1575720" cy="9144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Рынок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ссудного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капитал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_s1040"/>
            <p:cNvSpPr/>
            <p:nvPr/>
          </p:nvSpPr>
          <p:spPr>
            <a:xfrm>
              <a:off x="5493960" y="3122640"/>
              <a:ext cx="1575360" cy="9144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Рынок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ценных бумаг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CC859-51BB-430E-8DC8-8971370CE2A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финансовую систему входят две подсистем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71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овокупность финансовых институтов …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овокупность государственных органов и учреждений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3B6ED-A6EC-40CE-8AAB-0AF405056E7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95280" y="274680"/>
            <a:ext cx="8291520" cy="23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Финансовая система может быть представлена как совокупность трех основных звеньев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3068280"/>
            <a:ext cx="8229600" cy="30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осударственные финанс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стные финанс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астные финанс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C6196-DF5F-49CC-A407-A6199F1A1F6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Финансовая система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403848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ецентрализован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инансы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финансы  Ю.Л.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финансы  Ф.Л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48320" y="1197000"/>
            <a:ext cx="40384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Централизованные     финанс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Бюджетная система Р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Государственный кред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Внебюджетные фон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691F8-FDFE-45E8-83E1-E48A5463436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Литерату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юджетный Кодекс Р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юджетная система России, под. ред.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Г. Б. Поляк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инансы, под. ред. А. М. Ковалев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инансы, под. ред.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Л. А. Дробози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еория финансов -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Б. М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Сабант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42AB8-B2C4-4655-BC92-6145D994266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равнение «денег» и «финансов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Деньги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– всеобщий стоимостной эквивален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Функции денег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ра стоимост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редство обращени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редство платеж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редство накоплени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ировые деньг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927D9-879A-48D7-B6A2-EA304B33802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Финансы,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 историческая категория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озданием государства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оявление самостоятельных хозяйствующих субъектов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бщественное разделение труда и деление общества на социальные групп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90592-2152-48A8-935E-0B3C2C8EB28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Финансы,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 экономическая категор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овокупность экономико – денежных отношений, связанных с формированием, распределением и использованием финансовых ресурсов для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5D57D-71D8-449D-923E-AD74469920F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56840" y="260280"/>
            <a:ext cx="814716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инансы выступают в денежной форме, но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539640" y="1341360"/>
          <a:ext cx="8280360" cy="4248360"/>
        </p:xfrm>
        <a:graphic>
          <a:graphicData uri="http://schemas.openxmlformats.org/drawingml/2006/table">
            <a:tbl>
              <a:tblPr/>
              <a:tblGrid>
                <a:gridCol w="4141800"/>
                <a:gridCol w="4138560"/>
              </a:tblGrid>
              <a:tr h="777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Деньги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Финансы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Определе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Определе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Функци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Функци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Возникнове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Возникнове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 Круг экономических отношени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 Круг экономических отношени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224CF-F7E4-4369-8907-514EC2302E0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Финансовые ресурс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обственные средства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Мобилизованные средства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редства, поступившие в порядке перераспределени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8D907-36ED-4907-BB1F-D8BB261F5CC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Функции финансов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Распределительная (перераспределительная)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Регулирующая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онтрольна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D5327-F6A6-4F65-A470-C164A1E8206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964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редние темпы роста в промышленности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(% в месяц, сезонный фактор устранен)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457200" y="981000"/>
          <a:ext cx="8229600" cy="4986360"/>
        </p:xfrm>
        <a:graphic>
          <a:graphicData uri="http://schemas.openxmlformats.org/drawingml/2006/table">
            <a:tbl>
              <a:tblPr/>
              <a:tblGrid>
                <a:gridCol w="5267160"/>
                <a:gridCol w="1368720"/>
                <a:gridCol w="1593720"/>
              </a:tblGrid>
              <a:tr h="85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юнь 20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прель - Июнь 20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быча полезных ископаем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рабатывающие производст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изводство пищевых продук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еллюлозно-бумажное производство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изводство кокса и нефтепродук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имическое производст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таллургическое производст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изводство машин и оборудов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изводство электрооборудов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3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изводство транспортных средст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изводство и распределение электроэнергии, газа и вод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7T08:06:42Z</dcterms:created>
  <dc:creator>Riabova Elena</dc:creator>
  <dc:description/>
  <dc:language>en-US</dc:language>
  <cp:lastModifiedBy>LEGION</cp:lastModifiedBy>
  <dcterms:modified xsi:type="dcterms:W3CDTF">2014-11-10T12:15:02Z</dcterms:modified>
  <cp:revision>23</cp:revision>
  <dc:subject/>
  <dc:title>Слайд 1</dc:title>
</cp:coreProperties>
</file>